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274-9045-4361-B5C8-1542697A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3C4-9223-4FC8-8836-1EA33DE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1B2-2D70-4866-B224-ED3DAFA1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4E1-0AFB-488D-A7E7-41495AED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9F04-4B83-485E-821A-7FFACDBC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38C8-1107-4219-8624-48EDCCD3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FCDA-9C6F-4950-9FCF-C037AE3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3B62-9E78-43D6-A096-D8B933E7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982-2663-4F20-A682-9AD03F2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FEC4-4511-491D-9154-EF15B17E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0D7-BB8A-4E3B-8539-AFE59283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9E5-CE0F-4F5C-8413-18C4D3D5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3BA8-C458-4AA7-96E1-DEC7824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1134-A65C-4469-85C9-43A40EA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6024-9E2B-4983-814D-EFB3D46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2C1F-4BE0-478D-99AD-E63B9FFC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37F5-F26F-458A-8505-9CA50C0E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48B-150A-40D7-AC19-9F5CA09C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88F-FB3E-4DD8-B03D-7563E90F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D05-A93F-4F09-8A37-62843A27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2C7-92C8-4348-9E3D-598B1484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DA1-DB50-4565-99AF-9FB4E1B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531-971D-4260-B343-A9FD040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356-4086-404D-B536-7D29D82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64FB-8A21-45B6-A49A-5BEA25FD19D9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AA9-773B-4D64-9B5B-E058237C93CC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USE OF DIAGNOSTIC TESTS IN PRIMARY HEALTH CARE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Verdana"/>
              </a:rPr>
              <a:t>Marilena Constantin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Verdana"/>
              </a:rPr>
              <a:t>Camelia Mihaescu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Victor Babes” Diagnosis and Treatment Center Bucharest, Rom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DISCUSS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22 symptoms were identified: 25.3% back pain, 15.6% chest pain, 8.4% painful shoulder, 4.8% headache,  4.8% dizziness, 41.% other symptoms (&lt; 4 % per symptom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For 75.9 % of the patients were ordered investigations. 68.6 % of the patients performed at least one diagnostic test and 24% were referred to a specialis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43.4% of the patients had abnormal diagnostic tests which correlated with the diagn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he diagnosis was established for 53% of the patients (in 40% using tests and  8% were diagnosed clinically or after differential diagnosi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Investigations contributed to diagnose for the patients with: dizziness 100%, headache 70%, back pain 42.8%. For other symptoms (chest pain, left or right hemithorax pain) the recommended tests were normal, but they were useful for differential diagn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Diagnostic tests were essential to diagnose 6 medical emergencies (pericarditis, third degree heart block, right pleuresia, paroxysmal atrial fibrillation, deep vein thrombosis, pelvic inflammatory diseas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Pain with different localization was the main symptom for the patients who visited general practition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2. Diagnostic tests and referral to other specialists were useful to establish the diagnosis for 48.2% (half of the patient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3. Medical history and physical examination could avoid recommendation for unnecessary investigations (for example chest x-ray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Verdana"/>
              </a:rPr>
              <a:t>The fear of the doctor to misdiagnose the patient, but also the fear of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Verdana"/>
              </a:rPr>
              <a:t>the patient not  to have a serious disease contribute to the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Verdana"/>
              </a:rPr>
              <a:t>recommendation of unnecessary test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Verdana"/>
              </a:rPr>
              <a:t>BUT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Verdana"/>
              </a:rPr>
              <a:t>PACIENT WANTS TO KNOW NOW  THE CAUSE OF HIS/HER PROBLEM !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USE OF DIAGNOSTIC TESTS IN PRIMARY HEALTH CAR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A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TO EVALUATE THE RECOMMENDATION FOR DIAGNOSTIC TESTS AND REFERRAL TO OTHER SPECIALISTS FOR ESTABLISHING AN ACCURATE DIAGNOSIS AND TREATMENT IN PRIMARY HEALTH CA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DENTIFICATION OF SYMPTO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HOW OFTEN DIAGNOSIS TESTS WERE RECOMMENDED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YMPTOM – RECOMMENDED TESTS-DIAGNOSIS CONNECT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ESIGN&amp;METH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83 ADULT PATIENTS (45 MEN, 38 WOMEN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PRIMARY CARE PATIENTS SEEKING MEDICAL ATTENTION FOR ONE SYMPTOM BETWEEN JANUARY 2005 – DECEMBER 200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USE OF DIAGNOSTIC TESTS IN PRIMARY HEALTH CAR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115740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IDENTIFICATION OF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00280" y="1676520"/>
          <a:ext cx="796284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676520"/>
                    <a:ext cx="79628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RECOMMENDATIONS FOR DIAGNOSIS TESTS/REFERRENCE TO SPECIALIS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6431040"/>
            <a:ext cx="27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NUMBER OF PATIENTS:8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00160" y="44038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75.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90720" y="53182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.1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1752480"/>
          <a:ext cx="7086600" cy="47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08660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106440" y="42480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75.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9320" y="524196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.1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RECOMMENDATIONS FOR DIAGNOSTIC TESTS/REFERRENCE TO SPECIALIS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2273400"/>
          <a:ext cx="8534520" cy="3670200"/>
        </p:xfrm>
        <a:graphic>
          <a:graphicData uri="http://schemas.openxmlformats.org/drawingml/2006/table">
            <a:tbl>
              <a:tblPr/>
              <a:tblGrid>
                <a:gridCol w="3733920"/>
                <a:gridCol w="1447560"/>
                <a:gridCol w="990720"/>
                <a:gridCol w="121932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IAGNOSTIC TESTS RECOMMEN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. of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8 (20.2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7 (19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(oblique view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 (11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1 (12.3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BDOMINAL ULTRASOU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 (9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NDOSCOP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OULDER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OPPLER ULTRSONOGRAPHY FOR CAROTID ARTE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BREAST ULTRASONOGRAPH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RECOMMENDATIONS FOR DIAGNOSTIC TESTS/REFERRENCE TO SPECIALIS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2333520"/>
          <a:ext cx="8458200" cy="3838680"/>
        </p:xfrm>
        <a:graphic>
          <a:graphicData uri="http://schemas.openxmlformats.org/drawingml/2006/table">
            <a:tbl>
              <a:tblPr/>
              <a:tblGrid>
                <a:gridCol w="3733920"/>
                <a:gridCol w="1371600"/>
                <a:gridCol w="990360"/>
                <a:gridCol w="121932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REFFERENCE TO SPECIAL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. of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4 (15,7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CARDIOLOGIC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 (9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NDOCRINE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4 (4.4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4 (4.4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ORTHOPEDIC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SYCHIATRIC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GASTROENTEROLOGI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GYNECOLOGICAL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YE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UTRITION /METABOLISM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15228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YMPTOMS -RECOMMENDED TESTS-DIAGNOSIS CONNE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066680"/>
          <a:ext cx="8534520" cy="5478480"/>
        </p:xfrm>
        <a:graphic>
          <a:graphicData uri="http://schemas.openxmlformats.org/drawingml/2006/table">
            <a:tbl>
              <a:tblPr/>
              <a:tblGrid>
                <a:gridCol w="1524240"/>
                <a:gridCol w="1828800"/>
                <a:gridCol w="858600"/>
                <a:gridCol w="1046160"/>
                <a:gridCol w="609840"/>
                <a:gridCol w="2666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mp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commend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agn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BACK PA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21)(25,3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ondylodiscopathy(5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coliosis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nal colic(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erpesZoster infection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3)(15,6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doscop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ericarditis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Gastritis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uodenal ulcer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FUL SHOULDER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7)(8,4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houlder 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Orthopedic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discopathy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Brachial plexus disorder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capulohumerale arthritis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ZZINESS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hird degree heart block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Benign paroxysmal positional vertigo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discopathy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FFUSE HEADACHE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ye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Migraine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IGHT HEMITHORAX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ight pleure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EFT HEMITHORAX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ondyl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YMPTOMS -RECOMMENDED TESTS-DIAGNOSIS CONNE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81080"/>
          <a:ext cx="8534520" cy="3908520"/>
        </p:xfrm>
        <a:graphic>
          <a:graphicData uri="http://schemas.openxmlformats.org/drawingml/2006/table">
            <a:tbl>
              <a:tblPr/>
              <a:tblGrid>
                <a:gridCol w="1600200"/>
                <a:gridCol w="2209680"/>
                <a:gridCol w="838440"/>
                <a:gridCol w="1066680"/>
                <a:gridCol w="609480"/>
                <a:gridCol w="221004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mp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commended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agn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OSTERIOR THORACIC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.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Orthopedic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coliosis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NCOP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4)(4.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ardiologic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oppler ultrasonography for carotid arte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tress 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olter monitor for cardiac arrhythm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roxysmal at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fibril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EMICRAN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EADACH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ye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discopathy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Migraine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ronic rhinosinusit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ALGIA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rnold’s neuralg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YMPTOMS -RECOMMENDED TESTS-DIAGNOSIS CONNE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374840"/>
          <a:ext cx="8763120" cy="5102280"/>
        </p:xfrm>
        <a:graphic>
          <a:graphicData uri="http://schemas.openxmlformats.org/drawingml/2006/table">
            <a:tbl>
              <a:tblPr/>
              <a:tblGrid>
                <a:gridCol w="2362320"/>
                <a:gridCol w="1981080"/>
                <a:gridCol w="838440"/>
                <a:gridCol w="1066680"/>
                <a:gridCol w="609480"/>
                <a:gridCol w="190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mp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commended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agn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OWER LE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 (CALF)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 +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ebral IR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oppler US for de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vein thromb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ebral metastas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eep vein thromb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LPITATIO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nxie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ERIOMBILICAL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ultras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Ombilical her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WEATING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UPPER LOWER LIM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RESTHESIA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disc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OMBOSCIATALGIA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sc her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FUSSE ABDOMIN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co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EFT FL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ultras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eft reno-ureter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o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OWER ABDOMIN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Gynec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elvic inflammator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se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INGUINAL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Muscle stra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FEVER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cute interstit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neum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9:18Z</dcterms:created>
  <dc:creator>radiologie</dc:creator>
  <dc:description/>
  <dc:language>en-US</dc:language>
  <cp:lastModifiedBy>mgenerala</cp:lastModifiedBy>
  <dcterms:modified xsi:type="dcterms:W3CDTF">2011-02-20T12:21:10Z</dcterms:modified>
  <cp:revision>68</cp:revision>
  <dc:subject/>
  <dc:title>Slide 1</dc:title>
</cp:coreProperties>
</file>