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055-D950-499C-9EA0-77F95362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59C-F307-448E-A964-038EA610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3D5-3FB5-417F-B73F-15D23AF5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186-9207-4D24-BE55-3FAC764B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834-623C-4405-8A9C-BFFC0533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B6D-5A4E-41AF-9B68-C3DFC9D7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47E-6632-4EB9-B1A1-9C0A4938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87B-1747-4B4E-9865-B0BD50B5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2D6-6F51-4D76-819B-6C0A0308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0A5-D9D1-45BB-A2C4-E3722EE1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808-05FC-4D26-AF86-23A55253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D66-5D9D-45CC-A29C-84CEDC64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369BE-C8B7-4F4D-9093-53A5A726A34D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87FB3-BA98-415F-B516-A003402EEAD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5" descr="powerpoint W 25,4x19,52_Página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5120" y="882360"/>
            <a:ext cx="4713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 DOCTOR -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TIENT – SPECIALI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THIONSHIP IN PRIMARY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430520" y="3093840"/>
            <a:ext cx="405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ilena Constantin,M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melia Mihaescu,M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entrul de Diagnostic si Tratament ,,Victor Babes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ucuresti,Rom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4960" y="204624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eedback GP-pacient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25320" y="2766960"/>
          <a:ext cx="8083800" cy="1548000"/>
        </p:xfrm>
        <a:graphic>
          <a:graphicData uri="http://schemas.openxmlformats.org/drawingml/2006/table">
            <a:tbl>
              <a:tblPr/>
              <a:tblGrid>
                <a:gridCol w="3886200"/>
                <a:gridCol w="1559160"/>
                <a:gridCol w="26384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atii de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 paci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area telefon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 paci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4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 :controale,utilizare telef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:doar utilizarea telefon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are 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paci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controale,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:doar utilizarea email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ítulo 1"/>
          <p:cNvSpPr/>
          <p:nvPr/>
        </p:nvSpPr>
        <p:spPr>
          <a:xfrm>
            <a:off x="62532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914400" y="4842000"/>
            <a:ext cx="6954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25320" y="4842000"/>
            <a:ext cx="78663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ta de responsivitate: 287pacienti (75,78%): consultatii de control dupa prima prezentare,utilizarea telefonului,utilizare ema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cients who didn’t come back to GP (93p) had the next reasons for seeking medical attention: check-up 30 (32.25%); acute diseases 59 (63,4%); chronic disease 4 (4,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ut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5320" y="2130120"/>
            <a:ext cx="8180640" cy="39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0,2%pacienti au primit trimiteri spre specialist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edbackul GP-specialist a aratat o rata de responsivitate din partea specialistilor de 88.69%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 scrisori medicale si discutii cu medicii de famili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aborarea GP-specialisti a contribuit la diagnosticul a 82patients (43 cu boli acute, 5 pacienti cu boli incipiente, 2pacienti cu neoplasm in stadii incipiente si 32 pacienti cu multimorbiditat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aliza feedbackului GP-pacient a aratat o rata de responsivitate din partea pacientilor de 75,78%.24,12% pacienti nu au revenit la medicul de familie pentru consultatia de control (63,4% au avut simptome de boala acuta la prima prezentare 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lefonul a fost utilizat pentru 48,47% pacienti( 45,65% din cei care nua au revenit la control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-a comunicat prin e mail cu 4,42%pati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297080"/>
            <a:ext cx="786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cluz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4960" y="2265120"/>
            <a:ext cx="78663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edbackul medic de familie-specialist a aratat o rata crescuta de responsivitate din partea specialistilor si a contribuit la stabilirea unui  diagnostic preco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 trebui imbunatatit feedbackul medic de familie-pacient pentru o supraveghere mai buna a pacientil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fonul a fost un important mod de comunicare cu pacientii ,in special cu aceia care nu aua revenit la consultatia de contr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bunatatirea comunicarii prin email poate fi o solutie  for pentru pacientii care nu au timp suficient pentru a reveni la consulattia de contr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25320" y="1793520"/>
            <a:ext cx="526896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 multumesc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ilena CONSTANT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melia MIHAES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entrul de Diagnostic Si Tratament,,Victor Babes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curesti -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C:\Users\razvan\Pictures\Centrul-medical-Victor-Babes.jpg"/>
          <p:cNvPicPr/>
          <p:nvPr/>
        </p:nvPicPr>
        <p:blipFill>
          <a:blip r:embed="rId2"/>
          <a:stretch/>
        </p:blipFill>
        <p:spPr>
          <a:xfrm>
            <a:off x="4869000" y="3699000"/>
            <a:ext cx="3844800" cy="237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4960" y="2693880"/>
            <a:ext cx="786636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erea relatiei medic de familie-pacient–specialist in scopu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bilirii unui diagnostic precoce si corect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bunatatirii comunicarii medic-pacient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nitorizarea tratament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bi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4960" y="2890800"/>
            <a:ext cx="786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aluarea relatiei medic de familie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aluarea relatiei medic de familie-paci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t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69880" y="1871640"/>
            <a:ext cx="81518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 patientI(86.83%adulti) care s-au adresat medicului de familie in  2009 pentru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check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simptome acu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boli croni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-au urmarit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biletele de trimitere GP -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scrisorile medicale catre G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controlul medical dupa prima prezent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-au mentionat in fisele medicale ale pacientilo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discutiile telefonice sau prin email GP-paci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discutiile GP-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-a evaluat feedbackul medic de familie-pacient si medic de familie-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Content Placeholder 4"/>
          <p:cNvGraphicFramePr/>
          <p:nvPr/>
        </p:nvGraphicFramePr>
        <p:xfrm>
          <a:off x="617400" y="1720800"/>
          <a:ext cx="7866360" cy="362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400" y="1720800"/>
                    <a:ext cx="786636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823080" y="393876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Content Placeholder 5"/>
          <p:cNvGraphicFramePr/>
          <p:nvPr/>
        </p:nvGraphicFramePr>
        <p:xfrm>
          <a:off x="969840" y="1979640"/>
          <a:ext cx="6986880" cy="385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9840" y="1979640"/>
                    <a:ext cx="69868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058080" y="333360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Content Placeholder 5"/>
          <p:cNvGraphicFramePr/>
          <p:nvPr/>
        </p:nvGraphicFramePr>
        <p:xfrm>
          <a:off x="1041480" y="1890720"/>
          <a:ext cx="7264440" cy="427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1890720"/>
                    <a:ext cx="726444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otivele prezentari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4960" y="204768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eedback medic de familie-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24960" y="2787120"/>
            <a:ext cx="786636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ata de responsivitate din partea specialistilor:88.6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n colaboararea GP-specialisti au fost diagnosticati 82pacienti(21,58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341360" y="2787480"/>
          <a:ext cx="6096240" cy="1114560"/>
        </p:xfrm>
        <a:graphic>
          <a:graphicData uri="http://schemas.openxmlformats.org/drawingml/2006/table">
            <a:tbl>
              <a:tblPr/>
              <a:tblGrid>
                <a:gridCol w="3568680"/>
                <a:gridCol w="25275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miteri GP- specia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(30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risori medicale catre G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(26,8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tii GP-speciali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(11,8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ítulo 1"/>
          <p:cNvSpPr/>
          <p:nvPr/>
        </p:nvSpPr>
        <p:spPr>
          <a:xfrm>
            <a:off x="62532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P-SPECIALIST 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41280" y="1430280"/>
            <a:ext cx="85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eedback GP-specia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41280" y="95580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able 10" descr=""/>
          <p:cNvPicPr/>
          <p:nvPr/>
        </p:nvPicPr>
        <p:blipFill>
          <a:blip r:embed="rId2"/>
          <a:stretch/>
        </p:blipFill>
        <p:spPr>
          <a:xfrm>
            <a:off x="268200" y="2060640"/>
            <a:ext cx="2853000" cy="4359240"/>
          </a:xfrm>
          <a:prstGeom prst="rect">
            <a:avLst/>
          </a:prstGeom>
          <a:ln w="0">
            <a:noFill/>
          </a:ln>
        </p:spPr>
      </p:pic>
      <p:pic>
        <p:nvPicPr>
          <p:cNvPr id="78" name="Table 11" descr=""/>
          <p:cNvPicPr/>
          <p:nvPr/>
        </p:nvPicPr>
        <p:blipFill>
          <a:blip r:embed="rId3"/>
          <a:stretch/>
        </p:blipFill>
        <p:spPr>
          <a:xfrm>
            <a:off x="3127320" y="2060640"/>
            <a:ext cx="2852640" cy="43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6060960" y="2768760"/>
          <a:ext cx="2625840" cy="3014640"/>
        </p:xfrm>
        <a:graphic>
          <a:graphicData uri="http://schemas.openxmlformats.org/drawingml/2006/table">
            <a:tbl>
              <a:tblPr/>
              <a:tblGrid>
                <a:gridCol w="1030320"/>
                <a:gridCol w="1293840"/>
                <a:gridCol w="301680"/>
              </a:tblGrid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g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STAGE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ney adenocarcino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anoma Clark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STAGE DISEA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acroileit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pondilarthrytis HLA B27 posi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leiomyofibro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cervical poly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YMORBID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9:37:14Z</dcterms:created>
  <dc:creator>* *</dc:creator>
  <dc:description/>
  <dc:language>en-US</dc:language>
  <cp:lastModifiedBy>mgenerala</cp:lastModifiedBy>
  <dcterms:modified xsi:type="dcterms:W3CDTF">2011-02-20T12:15:15Z</dcterms:modified>
  <cp:revision>34</cp:revision>
  <dc:subject/>
  <dc:title>Diapositiva 1</dc:title>
</cp:coreProperties>
</file>