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F96-2F27-4123-9864-7531B398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8B7-DDE6-4C46-ACF3-C2EA82C3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FDD-45C5-4E9C-810F-B5FFF9D5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C7A-B333-4006-86C6-69674487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FFC-0421-4173-BDF7-08B0074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94D-13C8-4E4D-A0C1-C617585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272-32D5-48E7-81A3-88C2773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D18-1BF8-4690-82AE-52CB77C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3E6-1E63-4F76-A182-B98AB63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8A0-C00F-4D85-BD46-D9C9497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72B-B813-464E-AB36-42083B6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7B9-D674-4D11-8EDD-1018BDB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FA5C5-3E5E-4106-BF1C-57B7941E08F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CAC9B-335B-4648-A1A1-710975D82FC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5" descr="powerpoint W 25,4x19,52_Página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5120" y="882360"/>
            <a:ext cx="4713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DOCTOR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IENT –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HIONSHIP IN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30520" y="3093840"/>
            <a:ext cx="405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ilena Constantin,M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melia Mihaescu,M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Victor Babes” Diagnostic&amp;Treatment 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ucharest,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4960" y="204624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Patient feedback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5320" y="2766960"/>
          <a:ext cx="8083800" cy="1736640"/>
        </p:xfrm>
        <a:graphic>
          <a:graphicData uri="http://schemas.openxmlformats.org/drawingml/2006/table">
            <a:tbl>
              <a:tblPr/>
              <a:tblGrid>
                <a:gridCol w="3886200"/>
                <a:gridCol w="1559160"/>
                <a:gridCol w="2638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-up after the first medical 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:chek-up,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:only 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check-up,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only emai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4842000"/>
            <a:ext cx="695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5320" y="4842000"/>
            <a:ext cx="786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e of responsivity: 287patients (75,78%): check-up after the first medical presentation, telephone use, email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cients who didn’t come back to GP (93p) had the next reasons for seeking medical attention: check-up 30 (32.25%); acute diseases 59 (63,4%); chronic disease 4 (4,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5320" y="2130120"/>
            <a:ext cx="8180640" cy="39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0,2%patients were referred to specialis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s of GP-specialist feedback showed that the rate of responsivity from the specialists was 88.69% (medical letters and discussions with GP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on GP-specialists contributed to diagnose 82patients (43acute diseases, 5early stage diseases, 2 early stage cancer and 32 patients with multimorbidity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ng of GP-patient feedback showed that the rate of responsivity from the patients was75,78%.24,12% patients didn’t come back to GP (63,4% had acute symptoms at the first presentatio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ephone was used for 48,47% patients( 45,65% didn’t come back to GP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communicated by e-mail with 4,42%pati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297080"/>
            <a:ext cx="786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4960" y="2265120"/>
            <a:ext cx="78663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mily doctor-specialist feedback showed a high rate of responsivity from the specialists and contributed to diagnose early stage cancer and early stage disea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hould improve family doctor-patient feedback for better monitoring the pati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phone was an important way to communicate with patients,especially with those who didn’t come back toG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 of communication by email could be a solution for the patients who have not enough time for coming back toGP after the first medical present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25320" y="1793520"/>
            <a:ext cx="526896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y thank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ctor Babes” Diagnostic &amp; Treatment 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charest -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C:\Users\razvan\Pictures\Centrul-medical-Victor-Babes.jpg"/>
          <p:cNvPicPr/>
          <p:nvPr/>
        </p:nvPicPr>
        <p:blipFill>
          <a:blip r:embed="rId2"/>
          <a:stretch/>
        </p:blipFill>
        <p:spPr>
          <a:xfrm>
            <a:off x="4869000" y="3699000"/>
            <a:ext cx="384480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960" y="2693880"/>
            <a:ext cx="7866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scribe family doctor-patient-specialist relationship for establishing an accurate and precocious diagnosis of diseases, improving communication between doctors and patients, monitoring the treat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4960" y="2890800"/>
            <a:ext cx="786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valuate family doctor-specialist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valuate family doctor-patient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 &amp;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9880" y="1871640"/>
            <a:ext cx="81518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rimary care patients (86.83%adults) seeking medical attention in 2009 for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acute sympt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ronic disea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looked after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edical reports from GP to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edical letters to G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 after the first pres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mentioned in patients’ medical regist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patient – GP discussions by telephone and em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GP – specialist discu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evaluated family doctor-specialist feedback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mily doctor–patient feedba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Content Placeholder 4"/>
          <p:cNvGraphicFramePr/>
          <p:nvPr/>
        </p:nvGraphicFramePr>
        <p:xfrm>
          <a:off x="625320" y="1720800"/>
          <a:ext cx="7866360" cy="362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5320" y="1720800"/>
                    <a:ext cx="786636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823080" y="393876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Content Placeholder 5"/>
          <p:cNvGraphicFramePr/>
          <p:nvPr/>
        </p:nvGraphicFramePr>
        <p:xfrm>
          <a:off x="969840" y="1978200"/>
          <a:ext cx="6986880" cy="386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9840" y="1978200"/>
                    <a:ext cx="69868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58080" y="33336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Content Placeholder 5"/>
          <p:cNvGraphicFramePr/>
          <p:nvPr/>
        </p:nvGraphicFramePr>
        <p:xfrm>
          <a:off x="1041480" y="1890720"/>
          <a:ext cx="726444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890720"/>
                    <a:ext cx="7264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204768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4960" y="2787120"/>
            <a:ext cx="786636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e of responsivity from the specialists:88.6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aboration GP-specialists diagnosed 82patients(21,58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2787480"/>
          <a:ext cx="6096240" cy="1113120"/>
        </p:xfrm>
        <a:graphic>
          <a:graphicData uri="http://schemas.openxmlformats.org/drawingml/2006/table">
            <a:tbl>
              <a:tblPr/>
              <a:tblGrid>
                <a:gridCol w="3568680"/>
                <a:gridCol w="25275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reports from GP to 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(30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letters to 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(26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-specialists discu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(11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1280" y="143028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Specialist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41280" y="9558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able 10" descr=""/>
          <p:cNvPicPr/>
          <p:nvPr/>
        </p:nvPicPr>
        <p:blipFill>
          <a:blip r:embed="rId2"/>
          <a:stretch/>
        </p:blipFill>
        <p:spPr>
          <a:xfrm>
            <a:off x="268200" y="2060640"/>
            <a:ext cx="2853000" cy="4359240"/>
          </a:xfrm>
          <a:prstGeom prst="rect">
            <a:avLst/>
          </a:prstGeom>
          <a:ln w="0">
            <a:noFill/>
          </a:ln>
        </p:spPr>
      </p:pic>
      <p:pic>
        <p:nvPicPr>
          <p:cNvPr id="78" name="Table 11" descr=""/>
          <p:cNvPicPr/>
          <p:nvPr/>
        </p:nvPicPr>
        <p:blipFill>
          <a:blip r:embed="rId3"/>
          <a:stretch/>
        </p:blipFill>
        <p:spPr>
          <a:xfrm>
            <a:off x="3127320" y="2060640"/>
            <a:ext cx="2852640" cy="43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6060960" y="2768760"/>
          <a:ext cx="2625840" cy="3017520"/>
        </p:xfrm>
        <a:graphic>
          <a:graphicData uri="http://schemas.openxmlformats.org/drawingml/2006/table">
            <a:tbl>
              <a:tblPr/>
              <a:tblGrid>
                <a:gridCol w="1030320"/>
                <a:gridCol w="1293840"/>
                <a:gridCol w="30168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 adenocarcin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anoma Clark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DISEA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acroilei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ondilarthrytis HLA B27 posi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eiomyofibr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ervical poly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YMORBID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37:14Z</dcterms:created>
  <dc:creator>* *</dc:creator>
  <dc:description/>
  <dc:language>en-US</dc:language>
  <cp:lastModifiedBy>mgenerala</cp:lastModifiedBy>
  <dcterms:modified xsi:type="dcterms:W3CDTF">2011-02-27T17:17:39Z</dcterms:modified>
  <cp:revision>27</cp:revision>
  <dc:subject/>
  <dc:title>Diapositiva 1</dc:title>
</cp:coreProperties>
</file>